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BBE-12EA-44B9-AC90-860AB989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D95-557E-48AA-8725-8F5110E8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1E3-5A65-4BE6-9E67-33018EC0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BF1-4C0B-4292-A38B-97EAED1E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091-B6AC-400C-AA2B-883F462E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758-0525-4100-9672-5CE9802E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C3B-3439-4627-A3C1-FBFCC21E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FEB-AF47-44F1-8211-53CACB3F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B79-FDAE-4DF7-A496-8F60C50D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BDC-6B58-4A40-B1B4-55C98673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561-4B72-4BF0-A5D0-0336D76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2B1-1225-470C-9B3A-6DC5CA2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64C9-91CD-469F-BD74-5061ABDB5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负荆请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4339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-243360"/>
            <a:ext cx="9144000" cy="77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迎上去）廉将军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廉颇赶忙跪下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吃惊地）哎呀，廉将军，您这是——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蔺      大人，请您用这根荆条狠狠地抽我一顿吧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连忙取下荆条扔在一边，伸手去扶廉颇）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军，别这样，快请起，快请起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          （不肯起来）蔺大人，我实在对不住您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（双手扶起廉颇）请起来，廉将军，请起来吧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蔺        大人，请您宽恕我这个老迈昏庸的人吧！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常在别人面前侮辱您。现在，我知道，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是我的过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      过去的事就别提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            蔺大人，最初我还以为您怕我哩，后来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提醒，才明白您这样做完全是为我们赵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想。您真是一个深明大义、宽容大度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啊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 哈哈哈，廉将军，您能明白我的心思，我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太高兴了！韩勃，快叫人准备筵席，我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跟廉将军痛痛快快地饮几杯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韩勃应声下。蔺相如拿了一件衣服替廉颇披上，两人紧紧地拉着手，坐下来亲密地交谈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图说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0280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壁归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楚国有一件叫做和氏璧的宝玉，为赵惠文王所得，秦昭王听说后，表示愿意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城换取和氏璧。赵惠文王召见蔺相如，蔺相如表示愿带和氏璧去秦国，如果赵国得到秦国的城邑，就将和氏璧留在秦国，反之，一定完壁归赵。蔺相如到秦国后，将和氏璧献上，秦昭王大喜，却全无将城邑给赵之意。蔺相如诓说玉上有一小疵点，要指给秦昭王看，拿回了宝玉。他在庭柱旁站定，说：赵王担心秦国自恃强大，得和氏璧而不给城邑，经过我劝说方才答应。赵王斋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，然后才让我捧璧前来，以示对秦国威严的尊重和敬意。不料大王礼仪简慢，毫无交割城邑的诚意，现在若大王一定要抢走宝玉，我宁可将脑袋与宝玉一起在柱子上撞碎。秦昭王无奈，只得划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城邑给赵。蔺相如估计秦昭王不过是假意应付，便提出要秦昭王也应斋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，再郑重其事地交换。秦昭王只好应允。蔺相如便派随从怀藏和氏璧，偷偷从小道返回赵国。秦昭王斋戒完毕，举行交换仪式时，蔺相如才把送和氏璧回赵之事告诉秦昭王，从而保全了和氏璧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渑池之会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诡计多端的秦王派使者告诉赵王，约赵王在渑池会谈。赵王害怕上当，又不敢不去。蔺相如为了祖国荣誉，不怕牺牲，决定亲自陪同赵王前往渑池。在宴会上，他与秦国君臣进行了针锋相对的斗争。在赵王被迫鼓瑟的情况下，他为了使赵国取得对等的地位，据理力争，使秦王不得不击缶。后来，泰国群臣向赵国要十五座城，蔺相如寸步不让，提出用秦国的国都咸阳作为交换条件，使秦王理屈词穷，毫无所得。蔺相如机智地保护了赵王的安全并且不被羞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读完故事，我还知道了蔺相如是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也懂得了一个国家的强大，需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按课文内容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蔺相如，想到哪些词语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廉颇，想到哪些词语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596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5610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国　蔺相如  府邸　廉颇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韩勃   门客　第一幕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幕启　韩勃   咽气　惧怕   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针锋相对   唇枪舌剑  寸步不让　　　若有所悟   和为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幕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幕启   客厅   踱步    匆匆走　荆条　跪下   吃惊   狠狠地    抽一顿　　怕我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迈昏庸 深明大义  宽容大度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筵席　宽恕 　侮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416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荆请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    战国时代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地点     蔺相如的府邸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人物     蔺相如：赵国的上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廉颇：    赵国的大将军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 韩勃：    蔺相如的门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一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幕启。蔺相如正在聚精会神地读书，旁边站着的韩勃气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呼的，好像受了许多委屈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br>
              <a:rPr sz="1800"/>
            </a:b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（气愤地）大人，别怪我多事，廉将军一再挡我们的道，太欺负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，我实在咽不下这口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（ 笑笑）韩勃，干吗这么生气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大人，您是赵国的上卿，职位比廉将军高，为什么那么怕他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（依然笑笑）我并不是怕他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 刚才在路上，大人不是有意避让廉将军的车子吗？要是我呀，才不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还是以和为贵嘛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（不满地）我真不明白，大人您为什么变得这样怕事。想当年，秦王那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厉害，您毫不惧怕，针锋相对地跟他斗，唇枪舌剑，寸步不让，多解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 既然秦王我都不怕，我会怕廉将军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    （不解地）那么大人为什么好几天不敢上朝？分明就是怕见到廉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嘛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  韩勃，你要知道，秦王不敢侵犯我国，就是因为我们赵国武有廉颇，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蔺相如。要是我跟廉将军闹翻了，后果将会怎么样？这一点你想过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（若有所悟地）唔，原来是这样！对，对，大人您做得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幕落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幕启。几天以后。蔺相如在客厅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步。一会儿，韩勃匆匆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（紧张地）大人！大人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  什么事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廉将军来了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（奇怪地）什么，廉将军来找我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廉将军他没穿上衣，还背着一根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呢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   快请廉将军进来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 是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韩勃下，一会儿工夫领廉颇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9:21:39Z</dcterms:created>
  <dc:creator>微软用户</dc:creator>
  <dc:description>www.05wang.com</dc:description>
  <dc:language>en-US</dc:language>
  <cp:lastModifiedBy>微软用户</cp:lastModifiedBy>
  <dcterms:modified xsi:type="dcterms:W3CDTF">2010-08-14T01:40:23Z</dcterms:modified>
  <cp:revision>9</cp:revision>
  <dc:subject/>
  <dc:title>www.05wang.com</dc:title>
</cp:coreProperties>
</file>