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099-DCA2-45F6-AF0C-2014C967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27D-CA33-4293-AB88-ECB0ADCA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7D2-4233-4F31-A118-E582C6A6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91E-E81F-4BD9-A438-0720C07F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F6E1-06E7-4D4E-9F4C-E982BD28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753E-C12C-4988-A3DA-1318145A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25E2-06A5-4BF0-BF35-816095A9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9088-230E-4945-B4F2-C04F1BD5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A2C7-86D1-4266-87CE-4CF65918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0916-712D-4329-9A38-ADF4CCA1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2AB5-D66F-4822-AE6B-3D78F502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B0D-62B1-46F5-AC13-F289C9F3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B29A-5A3C-4E78-90BE-3C8D06DF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1DCB-4B29-4FFD-AB56-B2D9058D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E2D7-8658-4FA6-9780-8F929B8D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43D5-88F7-4383-A1F2-C1677366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2314-6817-49F2-B27D-5C358B5F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65B-DFEB-4A78-A31A-629ED2AE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08AC-1D1B-412E-A0D7-E69FDD9F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9B5-B197-43ED-AC32-3FA6BFB5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D43-BC42-4941-B06D-F10A39C6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C7E-ADAD-4BD0-A693-99358449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381-4B28-4761-A548-4978296F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C26-727F-4728-84D4-87A13285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EF6F-CBC3-4EFB-A7B5-9FD85762103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03A4-4159-4DC7-A7D0-D02E3419B420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1447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981080"/>
            <a:ext cx="71625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培养良好的学习习惯（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11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鲁迅有哪些读书名言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只看一个人的著作，结果是不大好的：你就得不到多方面的优点。必须如蜜蜂一样，采过许多花，这才能酿出蜜来。倘若叮在一处，所得就非常有限，枯燥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读书要眼到、口到、心到、手到、脑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横眉冷对千夫指，俯首甘为孺子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14400" y="2133720"/>
            <a:ext cx="716292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不懂就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09480" y="1600200"/>
            <a:ext cx="4953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问谁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28800" y="3429000"/>
            <a:ext cx="6553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长城小姚体"/>
              </a:rPr>
              <a:t>问所有会的人、懂的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14400" y="2286000"/>
            <a:ext cx="7162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三人行必有我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173480" y="990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勤学好问的成语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905120"/>
            <a:ext cx="71629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悬梁刺股  凿壁借光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囊萤映雪  孜孜不倦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废寝忘食  不耻下问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837720"/>
            <a:ext cx="595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有关勤学好问的名言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书山有路勤为径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学海无涯苦作舟——韩愈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路漫漫其修远兮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吾将上下而求索——屈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敏而好学，不耻下问 ——孔子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38080" y="2286000"/>
            <a:ext cx="7162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勤于搜集资料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24382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报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523880"/>
            <a:ext cx="335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途径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81280" y="335268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网络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42670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参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19920" y="533412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访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0" y="1066680"/>
            <a:ext cx="3352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方法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14400" y="175248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摘抄做笔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31240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做资料卡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419720" y="28954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拍照摄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480060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编辑剪报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191120" y="49528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录音、复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ttp://www.05wang.com</dc:creator>
  <dc:description>http://www.05wang.com</dc:description>
  <dc:language>en-US</dc:language>
  <cp:lastModifiedBy>零五网</cp:lastModifiedBy>
  <dcterms:modified xsi:type="dcterms:W3CDTF">2014-11-05T11:23:31Z</dcterms:modified>
  <cp:revision>14</cp:revision>
  <dc:subject/>
  <dc:title>http://www.05wang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