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AB6-5B30-42C9-AE7D-60A93F31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2B0-B018-4BBF-BA80-ED2EBBCA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EE7-A3B8-4BE4-A1F5-D52CA200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F06-00CE-4B6A-AA49-3DB405E9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BEC3-1F3F-4B17-B648-745E0956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905C-F299-461F-8E48-4E6AABFB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9EE9-D461-48B9-82FB-FB73ABA5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2CFE-57ED-4A32-9CCC-B5DC8D61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CB5B-6293-4C3F-B0B1-21FE257E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D04B-7F97-46C4-83B1-63CA4A76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A05E-BF07-47E3-A2F0-3CD6F30F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46A-93CC-4143-A929-04BD85AE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2649-6A5B-4A9E-95FC-810E2940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74E0-BC46-4AAA-B50A-1ADD3046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4936-0A93-4FAE-98BB-50097796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F2A2-B46F-409F-B172-1C72025A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BF74-96DE-4187-B611-DA3DCC1D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623-7DDA-4F38-BEF2-C65B29F8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59C-BEF5-4064-B427-3322E5D1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BCE-D14C-4D68-99A1-1AE3E8ED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418-05B8-4ACA-80DE-97B070F3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E24-C0A4-43E8-A682-267B4EBD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F0C-F71E-4665-803B-EC015FC7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257-F616-4B81-828F-C18C988A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0372-34E3-44FB-837A-D9B5BC6E69C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5B42-15A2-4187-A3D2-BE1D45B1D5D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447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981080"/>
            <a:ext cx="71625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培养良好的学习习惯（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11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鲁迅有哪些读书名言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只看一个人的著作，结果是不大好的：你就得不到多方面的优点。必须如蜜蜂一样，采过许多花，这才能酿出蜜来。倘若叮在一处，所得就非常有限，枯燥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读书要眼到、口到、心到、手到、脑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横眉冷对千夫指，俯首甘为孺子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14400" y="2133720"/>
            <a:ext cx="71629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不懂就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1600200"/>
            <a:ext cx="4953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问谁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28800" y="3429000"/>
            <a:ext cx="6553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长城小姚体"/>
              </a:rPr>
              <a:t>问所有会的人、懂的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14400" y="2286000"/>
            <a:ext cx="7162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三人行必有我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73480" y="990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勤学好问的成语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905120"/>
            <a:ext cx="716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悬梁刺股  凿壁借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囊萤映雪  孜孜不倦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废寝忘食  不耻下问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837720"/>
            <a:ext cx="595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有关勤学好问的名言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书山有路勤为径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学海无涯苦作舟——韩愈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路漫漫其修远兮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吾将上下而求索——屈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敏而好学，不耻下问 ——孔子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38080" y="2286000"/>
            <a:ext cx="7162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勤于搜集资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24382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报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52388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途径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81280" y="33526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网络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42670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参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19920" y="533412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访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0" y="1066680"/>
            <a:ext cx="3352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方法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400" y="17524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摘抄做笔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31240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做资料卡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19720" y="28954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拍照摄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480060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编辑剪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91120" y="49528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录音、复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ttp://www.05wang.com</dc:creator>
  <dc:description>http://www.05wang.com</dc:description>
  <dc:language>en-US</dc:language>
  <cp:lastModifiedBy>零五网</cp:lastModifiedBy>
  <dcterms:modified xsi:type="dcterms:W3CDTF">2014-11-05T11:23:31Z</dcterms:modified>
  <cp:revision>14</cp:revision>
  <dc:subject/>
  <dc:title>http://www.05wang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