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F03-7F31-4CC2-8CD7-1CA86984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9AE-C5E0-4BC8-86DA-1C3DCD1C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2FF-6320-4C9C-8E19-FADC8AC7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67D-6C0B-4D61-8A27-8EFACB4B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1D0D-1B1D-4139-9555-FE5F66EE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AD8C-237E-4AAD-9FAE-7F7F971A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38AC-DCE6-4BDA-BBF4-8E55F6FC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409C-46CE-4571-B2BA-050D3E7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ACFE-D141-4560-A413-FBB78C49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6C1D-A1CA-48C2-B8E9-6D9781EA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BDC5-40CD-48FA-8768-9599DC64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A34-880F-4FBE-A6FF-7E37DAB5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5956-44DA-4FD9-9DE2-0A3712E4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F00F-D62A-49F9-9855-E813942F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2A8C-D06B-4E07-9431-C0951C24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6FE8-9724-4AA6-9B0F-021D95A0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FCC4-2247-461E-A5BA-BC59420C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794-0C47-48A4-B9A8-C0A3C70A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A3B-477F-4810-B914-1373930C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7C4-86C1-429D-A15B-F39F419F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E56-EA46-44E7-83A9-AE168241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C37-683D-44C9-8826-CD6A5BC3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127-82F1-4037-A028-591B1007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748-6CB3-4653-AEE0-A691CDAB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3BB2-A141-4985-BB2D-7C254E10235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2A94-426C-4DCE-A7CE-6DAAA305194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447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981080"/>
            <a:ext cx="71625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培养良好的学习习惯（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11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鲁迅有哪些读书名言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只看一个人的著作，结果是不大好的：你就得不到多方面的优点。必须如蜜蜂一样，采过许多花，这才能酿出蜜来。倘若叮在一处，所得就非常有限，枯燥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读书要眼到、口到、心到、手到、脑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横眉冷对千夫指，俯首甘为孺子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14400" y="2133720"/>
            <a:ext cx="71629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不懂就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1600200"/>
            <a:ext cx="4953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问谁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28800" y="3429000"/>
            <a:ext cx="6553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长城小姚体"/>
              </a:rPr>
              <a:t>问所有会的人、懂的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14400" y="2286000"/>
            <a:ext cx="7162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三人行必有我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73480" y="990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勤学好问的成语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905120"/>
            <a:ext cx="716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悬梁刺股  凿壁借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囊萤映雪  孜孜不倦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废寝忘食  不耻下问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837720"/>
            <a:ext cx="595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有关勤学好问的名言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书山有路勤为径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学海无涯苦作舟——韩愈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路漫漫其修远兮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吾将上下而求索——屈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敏而好学，不耻下问 ——孔子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38080" y="2286000"/>
            <a:ext cx="7162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勤于搜集资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24382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报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52388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途径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81280" y="33526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网络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42670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参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19920" y="533412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访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0" y="1066680"/>
            <a:ext cx="3352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方法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400" y="17524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摘抄做笔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31240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做资料卡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19720" y="28954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拍照摄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480060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编辑剪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91120" y="49528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录音、复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ttp://www.05wang.com</dc:creator>
  <dc:description>http://www.05wang.com</dc:description>
  <dc:language>en-US</dc:language>
  <cp:lastModifiedBy>零五网</cp:lastModifiedBy>
  <dcterms:modified xsi:type="dcterms:W3CDTF">2014-11-05T11:23:31Z</dcterms:modified>
  <cp:revision>14</cp:revision>
  <dc:subject/>
  <dc:title>http://www.05wang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