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A7E-3013-47F3-8AAF-3EBFA276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329-BDBB-4588-8D45-820D6752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055-0D5D-4F46-B703-3ACFE797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23-B076-461A-B370-3BD28795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CC4-5572-4A00-A071-314772DF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FD18-6660-4A5F-8768-0B90373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E42B-04D9-412E-80F1-0D31E11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F925-8512-4757-A512-F2B04BB7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AE2-B230-40F9-BA57-A4425499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04D4-7E27-457C-B54B-1A2D50F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0637-07F6-4FB9-8E2D-ECC0BC9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2B7-BE0D-43CD-B0EC-AE488122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E573-5F6D-4BBC-87CA-E6B1FC4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AC81-FEE2-402E-9B04-22EEECF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9A72-A9B3-4442-AF2F-6754B7C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871C-68D8-412E-B464-92F36D3D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FA15-3D5A-4D6E-A00A-527D2744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634-3D73-4593-B9AD-232378A1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9E4-EF18-49D9-8AAF-58EA5CF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0AC-EBB6-42A6-AEBA-EE2B3CEC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706-C7F5-4D3A-896B-D7B60B1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F53-E4C4-431E-B538-8363F55C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162-253F-480B-9AC9-FBCCC447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838-3C16-4228-ACE6-9AF1A2C3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DBC-0996-4BEB-A6A9-F3D9B52CFE0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CBE6-4CAE-4EF1-A51F-D72BBEB1903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447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981080"/>
            <a:ext cx="71625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培养良好的学习习惯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1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鲁迅有哪些读书名言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只看一个人的著作，结果是不大好的：你就得不到多方面的优点。必须如蜜蜂一样，采过许多花，这才能酿出蜜来。倘若叮在一处，所得就非常有限，枯燥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读书要眼到、口到、心到、手到、脑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横眉冷对千夫指，俯首甘为孺子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14400" y="2133720"/>
            <a:ext cx="71629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不懂就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1600200"/>
            <a:ext cx="49532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问谁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28800" y="3429000"/>
            <a:ext cx="6553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长城小姚体"/>
              </a:rPr>
              <a:t>问所有会的人、懂的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1440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三人行必有我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73480" y="990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勤学好问的成语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905120"/>
            <a:ext cx="716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悬梁刺股  凿壁借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囊萤映雪  孜孜不倦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废寝忘食  不耻下问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837720"/>
            <a:ext cx="595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有关勤学好问的名言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书山有路勤为径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学海无涯苦作舟——韩愈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路漫漫其修远兮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吾将上下而求索——屈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敏而好学，不耻下问 ——孔子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8080" y="2286000"/>
            <a:ext cx="7162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勤于搜集资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90920" y="24382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报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5238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途径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1280" y="33526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网络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4267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参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19920" y="533412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访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0" y="1066680"/>
            <a:ext cx="3352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长城小姚体"/>
              </a:rPr>
              <a:t>方法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长城小姚体"/>
              <a:ea typeface="长城小姚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7524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摘抄做笔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31240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做资料卡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19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拍照摄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480060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编辑剪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91120" y="49528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长城小姚体"/>
              </a:rPr>
              <a:t>录音、复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长城小姚体"/>
              <a:ea typeface="长城小姚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05wang.com/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ttp://www.05wang.com</dc:creator>
  <dc:description>http://www.05wang.com</dc:description>
  <dc:language>en-US</dc:language>
  <cp:lastModifiedBy>零五网</cp:lastModifiedBy>
  <dcterms:modified xsi:type="dcterms:W3CDTF">2014-11-05T11:23:31Z</dcterms:modified>
  <cp:revision>14</cp:revision>
  <dc:subject/>
  <dc:title>http://www.05wang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