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7E8-4C16-45C3-9A31-4A0E95DE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A83-2163-426B-AF95-2BF4A9D1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B95-4C05-4B18-A707-B312480D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9D6-786F-4F1C-A5BB-428B1E74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57E-0D45-485D-B92B-0F27E54A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000-FC0E-424D-B1AE-9400031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0A3-FDE1-49D7-8FFC-F8EDF38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DC-A95E-42B9-840B-DC5BE6C8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F7B-B888-42C0-A326-70D6270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2D5-8EF9-4D5A-B526-2053FC3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FE2-6544-4A0E-AA30-D7FB3DC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894-E883-4C92-8A42-C290D21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F8C5-7F3A-4BE6-8C22-A7BDB7ABE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421000"/>
            <a:ext cx="6408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爱你啊，中国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2421000"/>
            <a:ext cx="549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灿烂的太阳跳出东海的碧波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帕米尔高原依然是群星闪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当北国还是银装素裹的世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南疆早已洋溢着盎然的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啊，我们爱你，中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04640"/>
            <a:ext cx="331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桂林山水的清奇俊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杭州西湖的浓妆淡抹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黄山、庐山的云雾飘渺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长江、黄河的波澜壮阔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龙井茶的清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茅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纯美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江南丝绸的光洁绚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景德镇陶瓷的天工巧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傣家竹楼前如水的月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世界屋脊上布达拉宫的巍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吐鲁番的葡萄、哈密的瓜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大草原的羊群、戈壁滩的骆驼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战国编钟奏出的古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改革开放谱写的新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神州万里涌动的滚滚春潮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祖国大地燃起的希望之火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爱你—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奋斗书写的史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汗水浇灌的硕果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松树的伟岸、梅花的高洁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博大的胸怀、恢宏的气魄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骄傲，我们自豪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奋发，我们开拓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是世界民族之林的强者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爱你啊，中国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了《我们爱你啊，中国》，同学们一定有许多话要说。请说说“我心中的祖国”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813600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06472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32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13780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2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群星闪烁    民族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银装素裹    洋溢盎然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清奇俊秀　 浓妆淡抹　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云雾飘渺    波澜壮阔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洁绚丽    天工巧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汗水浇灌     恢宏气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景德镇  吐鲁番   戈壁滩 　　　　　</a:t>
            </a:r>
            <a:br>
              <a:rPr sz="54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滚滚春潮 战国编钟 布达拉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竹楼 屋脊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陶瓷  纯美 傣家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谱写  巍峨  葡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燃起  硕果    伟岸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博大胸怀　自豪  开拓　碧波 　帕米尔高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86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共分为三个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一部分：歌颂祖国的幅员辽阔，总写对祖国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至六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二部分：从不同的侧面歌颂祖国壮丽的山河、丰富的物产、光辉的历史和伟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七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三部分：表达了誓把祖国建设得更加美好的坚定决心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写祖国幅员辽阔，总起全诗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以“我们爱你”作为起句，从不同角度，歌颂赞美可爱的祖国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总结全文。回顾过去，骄傲自豪；展望未来，奋发开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05:52Z</dcterms:created>
  <dc:creator>微软用户</dc:creator>
  <dc:description>www.05wang.com</dc:description>
  <dc:language>en-US</dc:language>
  <cp:lastModifiedBy>零五网</cp:lastModifiedBy>
  <dcterms:modified xsi:type="dcterms:W3CDTF">2014-11-05T11:37:36Z</dcterms:modified>
  <cp:revision>14</cp:revision>
  <dc:subject/>
  <dc:title>www.05wang.com</dc:title>
</cp:coreProperties>
</file>