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831-07B8-44A0-A3DA-CEA06672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98F-265D-43C3-B992-D1E63CFD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8D2-FE18-4246-8BDB-9C5CE646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0E3-0559-4631-A3C4-D78B9816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5B9-03B5-4259-8542-88177FC5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804-71F8-47B4-A3DE-46F70855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38B-F56A-41B4-8804-093490C1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84B-BFB2-4045-B8FE-7DB09616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466-2863-450C-A082-E2C0C64A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E9D-FBAE-4C80-8578-FFA42722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33B-7F2A-4F66-B338-E401EE92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479-B2D2-41A9-85AB-08226353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D971-AFF4-4856-97E2-3E36BA0647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421000"/>
            <a:ext cx="6408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爱你啊，中国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3080" y="2421000"/>
            <a:ext cx="5497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灿烂的太阳跳出东海的碧波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帕米尔高原依然是群星闪烁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当北国还是银装素裹的世界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南疆早已洋溢着盎然的春色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啊，我们爱你，中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204640"/>
            <a:ext cx="3311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桂林山水的清奇俊秀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杭州西湖的浓妆淡抹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黄山、庐山的云雾飘渺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长江、黄河的波澜壮阔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龙井茶的清香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茅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纯美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江南丝绸的光洁绚丽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景德镇陶瓷的天工巧夺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傣家竹楼前如水的月色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世界屋脊上布达拉宫的巍峨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吐鲁番的葡萄、哈密的瓜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大草原的羊群、戈壁滩的骆驼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战国编钟奏出的古曲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改革开放谱写的新歌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神州万里涌动的滚滚春潮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祖国大地燃起的希望之火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爱你——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奋斗书写的史册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汗水浇灌的硕果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松树的伟岸、梅花的高洁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博大的胸怀、恢宏的气魄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骄傲，我们自豪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我们奋发，我们开拓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你是世界民族之林的强者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我们爱你啊，中国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完了《我们爱你啊，中国》，同学们一定有许多话要说。请说说“我心中的祖国”吧！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8136000" cy="30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064720" cy="351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508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280360" cy="322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813780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207280" cy="42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群星闪烁    民族之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银装素裹    洋溢盎然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清奇俊秀　 浓妆淡抹　　　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云雾飘渺    波澜壮阔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光洁绚丽    天工巧夺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汗水浇灌     恢宏气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景德镇  吐鲁番   戈壁滩 　　　　　</a:t>
            </a:r>
            <a:br>
              <a:rPr sz="54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滚滚春潮 战国编钟 布达拉宫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竹楼 屋脊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陶瓷  纯美 傣家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谱写  巍峨  葡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燃起  硕果    伟岸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博大胸怀　自豪  开拓　碧波 　帕米尔高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137440" cy="586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诗共分为三个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一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一部分：歌颂祖国的幅员辽阔，总写对祖国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二至六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二部分：从不同的侧面歌颂祖国壮丽的山河、丰富的物产、光辉的历史和伟大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七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三部分：表达了誓把祖国建设得更加美好的坚定决心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一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写祖国幅员辽阔，总起全诗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以“我们爱你”作为起句，从不同角度，歌颂赞美可爱的祖国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总结全文。回顾过去，骄傲自豪；展望未来，奋发开拓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05:52Z</dcterms:created>
  <dc:creator>微软用户</dc:creator>
  <dc:description>www.05wang.com</dc:description>
  <dc:language>en-US</dc:language>
  <cp:lastModifiedBy>零五网</cp:lastModifiedBy>
  <dcterms:modified xsi:type="dcterms:W3CDTF">2014-11-05T11:37:36Z</dcterms:modified>
  <cp:revision>14</cp:revision>
  <dc:subject/>
  <dc:title>www.05wang.com</dc:title>
</cp:coreProperties>
</file>