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EEE7-A275-4C3E-80F1-C882B5A5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0FD6-C830-4766-807A-3F0ABF9F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1A73-D155-4CBF-933A-BDA5ABE32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4D64-8783-4F18-9F21-CDA75476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BCC6-D214-439F-8885-14367349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2819-6E34-44FF-944A-7FD27DE9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19FF-789E-4111-BC40-DE196C66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1763-85E4-4210-B67C-2CD496E0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3C72-9006-4D4D-934F-5406F2E0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EC7F-3567-437C-A9DF-590EB475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89B2-0A49-454B-A827-ED07875F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63B9-D9CF-4900-886F-EA00D34D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2DC9-EEED-41DD-BD8C-5C55FB7E22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3280" y="836280"/>
            <a:ext cx="295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郑成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5040360" cy="43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郑成功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62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66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明末清初军事家，民族英雄。初名森，又名福松，字明俨，号大木。福建南安人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62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日生于日本平户，父亲郑芝龙为明福建总兵，母亲田川氏系日本人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64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，赐姓朱，改名成功，封忠孝伯，任御营中军都督，世称“国姓爷”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66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正月，在厦门召开军事会议，决计收复台湾，而后下令整修船只，调整部署，加紧复台准备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66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日，迫使揆一在投降书上签字，使台湾回归祖国。于是就在台湾加强建设，促进了政治、经济发展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清康熙元年五月初八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(166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病逝，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岁，子郑经继位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郑成功一生，抗清驱荷，以赶走荷兰殖民主义者、收复祖国领土台湾的业绩载入史册，海峡两岸均立像树碑纪念。</a:t>
            </a:r>
            <a:br>
              <a:rPr sz="1800"/>
            </a:b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　 </a:t>
            </a:r>
            <a:br>
              <a:rPr sz="1000"/>
            </a:b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940360" y="1341360"/>
            <a:ext cx="2617920" cy="443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4360" y="259920"/>
            <a:ext cx="7704000" cy="62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民族英雄郑成功是福建省南安县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明朝末年，荷兰侵略者强占了我国的宝岛台湾。他们残酷地奴役台湾同胞，台湾人民恨透了这伙强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当时，郑成功驻军厦门。一天，他登上军营附近的一座山头，临风眺望。郑成功指着东南方向问卫兵：“那是什么地方？”卫兵说：“是大海。”“大海那边呢？”卫兵说：“是宝岛台湾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!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郑成功慷慨激昂地说：“台湾自古以来就是中国的领土，绝不允许侵略者横行霸道。我们一定要收复祖国的宝岛台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!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826920" y="620280"/>
            <a:ext cx="7345440" cy="56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郑成功在厦门修造船只，聚集粮草，加紧操练海军。渡海东征的这一天终于来到了。郑成功在一群将领的簇拥下，站在船楼上四处嘹望。这支在滔滔海浪中前进的庞大舰队，前后绵延十几里，风帆蔽空，战旗招展。郑成功看到自己亲手训练的海军纪律严明，军容整肃，充满了必胜的信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荷兰侵略者凭借高大坚固的铁甲舰和舰上的大炮，企图负隅顽抗。英勇的郑军官兵冒着敌人密集的炮火，驾着舰船向敌舰队冲去。他们将敌舰团团围住，使敌人的大炮失去了威力。随着“轰隆”一声巨响，所有的舰船都震动起来，海面上掀起十几丈高的水柱。原来是一个炮手瞄准敌舰放了一炮，刚巧打中了弹药库。那艘敌舰被炸成许多碎片，飞向天空。敌人惊恐万状，敌舰队乱作一团。郑军官兵乘势用钩子钩住敌舰，一个个跳了上去。敌舰官兵无法逃脱，只好统统举手投降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81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　台湾同胞听说郑成功的军队到了，个个喜出望外。他们把粮食、海鲜、蔬菜和茶叶送来慰劳郑军官兵。高山族的酋长特地送来了鹿皮和兽肉，要见郑成功。郑成功赠给他们绸布和烟草，表示谢意。街头巷尾，鞭炮之声不绝，人们载歌载舞，欢庆胜利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56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郑成功收复台湾以后，大力发展生产。他派人把汉族农民用的犁、耙、锄、镰刀等农具，送到高山族弟兄手里。高山族弟兄逐渐学会了农业生产的新技术，生活得到明显改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从祖国内地来到台湾的，有不少爱国的读书人，郑成功让他们办起了学校。他还规定高山族子弟读书可以免除徭役。这样一来，高山族和汉族的关系更融洽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民族英雄郑成功收复台湾、建设台湾的伟大功业，是我们永远也不会忘记的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文结构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　　　决心收台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民族英雄　　胜利收台　纪念英雄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　　　建设台湾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总的来说，写战斗场面时一般要做到以下几点：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第一，要写好场面中的各个人物。写时，要抓住人物的语言、动作、神态等，进行描写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第二，既要勾画出场面的整体情况，又要着力描写其中一些最精彩的镜头，以突出场面的激烈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第三，还要穿插描写战斗时所处的环境，以烘托出战斗的气氛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000000"/>
                </a:solidFill>
                <a:latin typeface="Arial"/>
              </a:rPr>
              <a:t>巩固练习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604360" cy="339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生字词学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8893080" cy="45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468000" cy="388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8964720" cy="508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08000" y="620640"/>
            <a:ext cx="8496360" cy="252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95280" y="620640"/>
            <a:ext cx="8028000" cy="41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9640" y="498600"/>
            <a:ext cx="7561440" cy="549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7632720" cy="36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921708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403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000000"/>
                </a:solidFill>
                <a:latin typeface="Arial"/>
              </a:rPr>
              <a:t>结束  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186920" y="333360"/>
            <a:ext cx="6681960" cy="586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慷慨激昂  横行霸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四处嘹望  战旗招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军容整肃 负隅顽抗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惊恐万状 乱作一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载歌载舞 喜出望外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明朝末年 风帆蔽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2000" y="333360"/>
            <a:ext cx="597672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奴役  恨透  强盗  驻军 厦门  军营  附近  临风 眺望  聚集  簇拥  碎片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乘势  投降　　  蔬菜  慰劳  酋长 徭役 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犁、耙、锄、镰刀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融洽  郑成功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6840360" cy="36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词语提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负隅顽抗：（敌人或盗贼）倚靠险要的地势抵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喜出望外：遇到出乎意外的喜事而特别高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山族：我国少数民族之一，主要分布在台湾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酋长：部落的首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街头巷尾：大街小巷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徭役：古时统治阶级强制人民承担的无偿劳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200" spc="-1" strike="noStrike">
                <a:solidFill>
                  <a:srgbClr val="000000"/>
                </a:solidFill>
                <a:latin typeface="Arial"/>
              </a:rPr>
              <a:t>阅读训练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508720" y="836640"/>
            <a:ext cx="3000240" cy="5256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556000" y="4869000"/>
            <a:ext cx="2990880" cy="13665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9730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郑成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全文可以分为四个部分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7416720" cy="4784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第一至三自然段为第一部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介绍了郑成功及其当时的台湾背景，写出了郑成功决心要收复祖国的宝岛台湾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第四至六自然段为第二部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写郑成功打败荷兰侵略者，胜利收复台湾的经过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第七至八自然段为第三部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写郑成功收复台湾后，大力发展生产，兴办学校，建设台湾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第九自然段为第四部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写人们永远不忘记民族英雄郑成功的伟大事业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5T13:13:44Z</dcterms:created>
  <dc:creator>微软用户</dc:creator>
  <dc:description>www.05wang.com</dc:description>
  <dc:language>en-US</dc:language>
  <cp:lastModifiedBy>零五网</cp:lastModifiedBy>
  <dcterms:modified xsi:type="dcterms:W3CDTF">2014-11-05T11:42:11Z</dcterms:modified>
  <cp:revision>7</cp:revision>
  <dc:subject/>
  <dc:title>www.05wang.com</dc:title>
</cp:coreProperties>
</file>