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572-4ECE-49A7-9A3B-87BB7B3A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937-2C99-4518-A66B-407A2BE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682-E455-4185-B008-62091ABB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A0F-2F5F-490D-BD30-2D5C4150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8B2-C40F-4952-8C24-61BCA4AA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991-3BEB-42E9-B072-8E0480A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9AB-1240-4F72-AA2B-7B9FCBC6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BFC-721F-471A-B6C0-A84DC47A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F00-9FE2-41D7-A77C-53963A9E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FB7-04BD-4B8E-8AD1-61D2B42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C98-3D81-46AE-AA80-C2D5B37C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C72-16D2-4230-8911-76C16E3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6E0-EDA8-4498-98EE-DC82DBC9E1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7993080" cy="429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6043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初，波兰遭到欧洲列强的瓜分，有十分之九的领土落到了沙皇俄国的手里。波兰人民从此陷入了被欺凌、被压迫的深渊。年轻而富有才华的音乐家肖邦，满怀悲愤，不得不离开自己的祖国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的一天，维斯瓦河上弥漫着薄薄的雾霭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肖邦告别了自己的亲人，坐着马车离开了首都华沙。在城郊，马车突然被一大群人拦住，原来是肖邦的老师埃斯内尔和同学们来为他送行。他们站在路边，咏唱着埃斯内尔特地为肖邦谱写的送别曲《即使你远在他乡》。埃斯内尔紧紧地握住肖邦的手说：“孩子，无论你走到哪里，都不要忘记自己的祖国呀！”肖邦感动地点了点头。这时，埃斯内尔又捧过一只闪闪发光的银杯，深情地对肖邦说：“这里装的是祖国波兰的泥土，它是我们送给你的特殊礼物，请收下吧！”肖邦再也忍不住了，激动的泪水溢满了眼眶。他郑重地从老师手里接过了盛满泥土的银杯，回首望了望远处的华沙城，然后登上马车，疾驰而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就在他离开祖国的那几天，华沙爆发了反抗沙俄统治的起义。可是，没过多久，起义失败了。肖邦得知这一消息，悲愤欲绝。他将自己的一腔热血化成了音符，写下了著名的《革命进行曲》。那催人奋起的旋律，表现了波兰人民的呐喊与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　肖邦日夜思念着祖国。他把亡国的痛苦和对祖国前途的忧虑，全部倾注在自己的音乐创作之中。他勉励自己要工作、工作、再工作。他常常把自己关在幽暗的房间里，点上一支蜡烛，彻夜地作曲、弹琴。时间在消逝，可是他已根本没有了时间的概念。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在法国巴黎一住就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。为了祖国，也为了生计，肖邦四处奔波。疲劳加上忧愤，使肖邦原来的肺结核病又复发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他终于躺倒在病床上。弥留之际，肖邦紧紧握着姐姐路德维卡的手，喃喃地说：“我死后，请把我的心脏带回去，我要长眠在祖国的地下。”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肖邦就是这样带着亡国之恨在异国他乡与世长辞了。当时他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29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5184720" cy="461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101080" cy="350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028000" y="3284640"/>
            <a:ext cx="50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799308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1280" y="333360"/>
            <a:ext cx="151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788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84" y="4678"/>
                </a:moveTo>
                <a:lnTo>
                  <a:pt x="1884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59040" y="1676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165" y="4657"/>
                </a:moveTo>
                <a:lnTo>
                  <a:pt x="5165" y="465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6040" y="1684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88" y="4678"/>
                </a:moveTo>
                <a:lnTo>
                  <a:pt x="8488" y="467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16686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853" y="4635"/>
                </a:moveTo>
                <a:lnTo>
                  <a:pt x="11853" y="46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0" y="333000"/>
            <a:ext cx="49068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伟大的波兰音乐家，自幼喜爱波兰民间音乐，七岁写了《波 兰舞曲》，八岁登台演出，不满二十岁已成为华沙公认的钢 琴家和作曲家。后半生正值波兰亡国，在国外渡过，创作了 很多具有爱国主义思想的钢琴作品，以此抒发自己的思乡情、 亡国恨。其中有与波兰民族解放斗争相联系的英雄性作品， 如《第一叙事曲》、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调波兰舞曲》等；有充满爱国 热情的战斗性作品，如《革命练习曲》、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谐谑曲》 等；有哀恸祖国命运的悲剧性作品，如《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调奏鸣曲》等 还有怀念祖国、思念亲人的幻想性作品，如不少夜曲与幻想曲。 肖邦一生不离钢琴，所有创作几乎都是钢琴曲，被称为“钢 琴诗人”。他在国外经常为同胞募捐演出，为贵族演出却很 勉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严辞拒绝沙俄授予他的“俄国皇帝陛下首席钢 琴家”的职位。舒曼称他的音乐象“藏在花丛中的一尊大 炮”，向全世界宣告：“波兰不会亡”。晚年生活非常孤寂， 痛苦地自称是“远离母亲的波兰孤儿”。临终嘱附亲人把自 己的心脏运回祖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3744720" cy="619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8893080" cy="40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7921800" cy="466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675640" cy="50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0400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136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28180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35200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我的心脏带回祖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亡国之恨  异国他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与世长辞  四处奔波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弥留之际  悲愤欲绝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腔热血  欧洲列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遭到 瓜分 欺凌  深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维斯瓦  弥漫  雾霭  肖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埃斯内尔   咏唱  谱写  眼眶  盛满  疾驰   爆发  音符  旋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呐喊   抗争  亡国  忧虑  倾注  勉励幽暗  蜡烛  彻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逝  概念   生计  忧愤  肺结核  路德维卡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2843280" cy="222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4360" y="2997360"/>
            <a:ext cx="676728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部分词语解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霭：雾气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驰：马车奔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催人奋起：叫人赶快行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呐喊：大声喊叫助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亡国：国家灭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逝：消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肺结核病：慢性传染病，通  称肺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瓜分：像切瓜一样地分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深渊：原指很深的水。文中比喻波兰人民遭受的苦难极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给课文分段，说说段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波兰被列强瓜分，肖邦被迫离开祖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二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带着祖国的泥土，告别亲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日夜思念祖国，忘我地进行音乐创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四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肖邦弥留之际请求把他的心脏带回祖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21:09Z</dcterms:created>
  <dc:creator>微软用户</dc:creator>
  <dc:description>www.05wang.com</dc:description>
  <dc:language>en-US</dc:language>
  <cp:lastModifiedBy>零五网</cp:lastModifiedBy>
  <dcterms:modified xsi:type="dcterms:W3CDTF">2014-11-05T11:45:55Z</dcterms:modified>
  <cp:revision>9</cp:revision>
  <dc:subject/>
  <dc:title>www.05wang.com</dc:title>
</cp:coreProperties>
</file>