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768-ACE0-4C07-9701-C3A54B4A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D86-DCE2-4520-A292-D55CE896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65EC-36F0-43F1-8511-11D4D0E3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BAD-3C05-4B04-A0E5-6FD81CC6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8EEE-9645-47E6-9E88-343213DB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9207-6C1C-440C-8B94-E2AF4802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E18A-9847-435F-9C0C-2E0E7073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AEA-CF37-4EF1-BA85-863490CC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238-5671-4784-97EC-ECCBABC7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1473-0977-4EBD-9C73-77A571C1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A0BF-26D4-4A8D-882B-FC096083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DE8E-6F80-4F0B-9722-BB886AF2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636C-66E8-4106-A4CC-314EDD0847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7993080" cy="4294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00360" y="620640"/>
            <a:ext cx="6043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我的心脏带回祖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我的心脏带回祖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世纪初，波兰遭到欧洲列强的瓜分，有十分之九的领土落到了沙皇俄国的手里。波兰人民从此陷入了被欺凌、被压迫的深渊。年轻而富有才华的音乐家肖邦，满怀悲愤，不得不离开自己的祖国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的一天，维斯瓦河上弥漫着薄薄的雾霭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的肖邦告别了自己的亲人，坐着马车离开了首都华沙。在城郊，马车突然被一大群人拦住，原来是肖邦的老师埃斯内尔和同学们来为他送行。他们站在路边，咏唱着埃斯内尔特地为肖邦谱写的送别曲《即使你远在他乡》。埃斯内尔紧紧地握住肖邦的手说：“孩子，无论你走到哪里，都不要忘记自己的祖国呀！”肖邦感动地点了点头。这时，埃斯内尔又捧过一只闪闪发光的银杯，深情地对肖邦说：“这里装的是祖国波兰的泥土，它是我们送给你的特殊礼物，请收下吧！”肖邦再也忍不住了，激动的泪水溢满了眼眶。他郑重地从老师手里接过了盛满泥土的银杯，回首望了望远处的华沙城，然后登上马车，疾驰而去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7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　就在他离开祖国的那几天，华沙爆发了反抗沙俄统治的起义。可是，没过多久，起义失败了。肖邦得知这一消息，悲愤欲绝。他将自己的一腔热血化成了音符，写下了著名的《革命进行曲》。那催人奋起的旋律，表现了波兰人民的呐喊与抗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　肖邦日夜思念着祖国。他把亡国的痛苦和对祖国前途的忧虑，全部倾注在自己的音乐创作之中。他勉励自己要工作、工作、再工作。他常常把自己关在幽暗的房间里，点上一支蜡烛，彻夜地作曲、弹琴。时间在消逝，可是他已根本没有了时间的概念。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肖邦在法国巴黎一住就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。为了祖国，也为了生计，肖邦四处奔波。疲劳加上忧愤，使肖邦原来的肺结核病又复发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4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，他终于躺倒在病床上。弥留之际，肖邦紧紧握着姐姐路德维卡的手，喃喃地说：“我死后，请把我的心脏带回去，我要长眠在祖国的地下。”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肖邦就是这样带着亡国之恨在异国他乡与世长辞了。当时他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296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5184720" cy="461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8101080" cy="350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028000" y="3284640"/>
            <a:ext cx="50472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799308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411280" y="333360"/>
            <a:ext cx="15130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7880" y="1684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84" y="4678"/>
                </a:moveTo>
                <a:lnTo>
                  <a:pt x="1884" y="467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59040" y="1676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165" y="4657"/>
                </a:moveTo>
                <a:lnTo>
                  <a:pt x="5165" y="465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6040" y="1684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488" y="4678"/>
                </a:moveTo>
                <a:lnTo>
                  <a:pt x="8488" y="467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16686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853" y="4635"/>
                </a:moveTo>
                <a:lnTo>
                  <a:pt x="11853" y="463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80000" y="333000"/>
            <a:ext cx="490680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伟大的波兰音乐家，自幼喜爱波兰民间音乐，七岁写了《波 兰舞曲》，八岁登台演出，不满二十岁已成为华沙公认的钢 琴家和作曲家。后半生正值波兰亡国，在国外渡过，创作了 很多具有爱国主义思想的钢琴作品，以此抒发自己的思乡情、 亡国恨。其中有与波兰民族解放斗争相联系的英雄性作品， 如《第一叙事曲》、《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调波兰舞曲》等；有充满爱国 热情的战斗性作品，如《革命练习曲》、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调谐谑曲》 等；有哀恸祖国命运的悲剧性作品，如《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调奏鸣曲》等 还有怀念祖国、思念亲人的幻想性作品，如不少夜曲与幻想曲。 肖邦一生不离钢琴，所有创作几乎都是钢琴曲，被称为“钢 琴诗人”。他在国外经常为同胞募捐演出，为贵族演出却很 勉强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83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严辞拒绝沙俄授予他的“俄国皇帝陛下首席钢 琴家”的职位。舒曼称他的音乐象“藏在花丛中的一尊大 炮”，向全世界宣告：“波兰不会亡”。晚年生活非常孤寂， 痛苦地自称是“远离母亲的波兰孤儿”。临终嘱附亲人把自 己的心脏运回祖国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8000" y="333360"/>
            <a:ext cx="3744720" cy="619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8893080" cy="40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7921800" cy="466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8675640" cy="509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604000" cy="24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8136000" cy="19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8281800" cy="26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8352000" cy="34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</a:rPr>
              <a:t>结束 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我的心脏带回祖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亡国之恨  异国他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与世长辞  四处奔波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弥留之际  悲愤欲绝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腔热血  欧洲列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遭到 瓜分 欺凌  深渊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维斯瓦  弥漫  雾霭  肖邦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埃斯内尔   咏唱  谱写  眼眶  盛满  疾驰   爆发  音符  旋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呐喊   抗争  亡国  忧虑  倾注  勉励幽暗  蜡烛  彻夜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消逝  概念   生计  忧愤  肺结核  路德维卡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484360" y="333360"/>
            <a:ext cx="2843280" cy="222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84360" y="2997360"/>
            <a:ext cx="6767280" cy="17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部分词语解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雾霭：雾气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疾驰：马车奔驰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催人奋起：叫人赶快行动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呐喊：大声喊叫助威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亡国：国家灭亡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消逝：消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肺结核病：慢性传染病，通  称肺病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瓜分：像切瓜一样地分割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深渊：原指很深的水。文中比喻波兰人民遭受的苦难极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阅读训练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给课文分段，说说段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一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波兰被列强瓜分，肖邦被迫离开祖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二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肖邦带着祖国的泥土，告别亲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三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肖邦日夜思念祖国，忘我地进行音乐创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四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肖邦弥留之际请求把他的心脏带回祖国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3:21:09Z</dcterms:created>
  <dc:creator>微软用户</dc:creator>
  <dc:description>www.05wang.com</dc:description>
  <dc:language>en-US</dc:language>
  <cp:lastModifiedBy>零五网</cp:lastModifiedBy>
  <dcterms:modified xsi:type="dcterms:W3CDTF">2014-11-05T11:45:55Z</dcterms:modified>
  <cp:revision>9</cp:revision>
  <dc:subject/>
  <dc:title>www.05wang.com</dc:title>
</cp:coreProperties>
</file>