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46B-F06E-4B4E-ACC4-B6F7FE81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E60-D901-43A8-8B2D-D9268FD6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C51-72B2-4042-A0C9-95243778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F30-5822-420E-9177-37927E9C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787-2B04-4E90-96EA-D7B22970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E78-ABA7-40F1-8399-01CC18BC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B64-7D26-41BF-A71E-6D8E711D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6C2-9C9A-4DA6-AEFA-AC804151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6C0-77A5-4848-BDD2-1A98EA56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EA0-5A12-4D24-BA14-62748654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E04-7A69-431D-882E-B44919C8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D66-7C57-494E-8FE4-D3D6DEFE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B194-3369-4191-A51E-3ED7710C33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052640"/>
            <a:ext cx="7201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　古诗两首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剑外忽传收蓟北，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初闻涕泪满衣裳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却看妻子愁何在，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漫卷诗书喜欲狂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日放歌须纵酒，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春作伴好还乡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即从巴峡穿巫峡，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便下襄阳向洛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61080" y="1268280"/>
            <a:ext cx="3236760" cy="512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译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47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剑门关外忽然听说军队收复蓟北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乍听到止不住的泪水洒满了衣裳。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头看妻儿的愁容不知去了何方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胡乱收拾着诗书不由得欣喜若狂。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日里引吭高歌呵且须纵情饮酒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的景色正好伴我回久别故乡。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即动身穿过了巴峡再穿过巫峡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经过襄阳再转向那旧都洛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品译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剑门关以南的四川，忽然传来收复蓟北的消息，初听到这个消息惊喜得涕泪交流，沾湿了衣裳。回过头来再看妻子和孩子，平日的忧愁已不知跑到何处去了；我胡乱地卷起诗书高兴得几乎要发狂。白日里我要放声歌唱，纵情畅饮；美好的春景正好伴着我返回故乡。我们要立即动身，从巴峡乘船，穿过巫峡，顺流直下到达湖北襄阳，再从襄阳北上，直奔洛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品注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65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初闻：刚刚听说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官军：指唐王朝的军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收：收复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河南河北：唐代安史之乱时，叛军的根据地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被官军收复。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剑外：剑门关以外，这里指四川。当时杜甫流落在四川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蓟北：今河北北部一带，是叛军的老巢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涕泪：指因欢喜而泪下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却看：再看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妻子：妻子和孩子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愁何在：哪还有一丝的忧伤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漫卷：胡乱地卷起。　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喜欲狂：高兴得简直要发狂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日：白天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歌：放声高歌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纵酒：纵情饮酒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青春：指春天的景物。作者想象春季还乡，旅途有宜人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色相伴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从：立即从某地到某地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巴峡：长江三峡之一，在嘉陵江上游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穿：穿越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巫峡：因巫山得名。长江三峡之一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襄阳：今属湖北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洛阳：今属河南，古代城池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便下：顺流而，是“一……就……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学习第二首古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4824720" cy="45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示儿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诗是南宋爱国诗人陆游诗人临终写给儿子的遗嘱，表达了诗人至死念念不忘“北定中原”、统一祖国的深挚强烈的爱国激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陆游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），字务观，号放翁，越州山阴（今浙江绍兴）人，是南宋伟大的的爱国诗人。他始终坚持抗金，在仕途上不断受到当权派的排斥打击。中年入蜀抗金，军事生活丰富了他的文学内容，作品吐露出万丈光芒，成为杰出诗人。词作量不如诗篇巨大，但和诗同样贯穿了爱国主义精神，“气吞残虏”，被后人称为“诗魔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词概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品名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儿 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创作年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宋 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姓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陆游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品体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 七言绝句 爱国诗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陆游毕生从事抗金和收复失地的正义事业。虽然屡遭投降派排挤、打击，但爱国热情始终没有消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古诗二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4048200" cy="632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6560" y="1052640"/>
            <a:ext cx="7778880" cy="49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示儿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陆游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死去元知万事空，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但悲不见九州同。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师北定中原日，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祭无忘告乃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6560" y="1123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示儿：示：告诉。告诉儿子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某些版本为元：本来；原来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九州：古代中国分为九个州：冀州、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a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州、青州、徐州、扬州、荆州、豫州、幽州、雍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里代指中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陆游九州同：全国统一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：统一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师：国家的军队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定：向北方平定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祭：家中祭祀祖先的仪式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乃翁：你的父亲；也表示老头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乃：你 ，你的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：原来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但：但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译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来就知道人一死世间一切就与我无关了，死去时唯一的遗憾就是没能看到祖国统一。待到南宋军队收复北方中原的那一天，在家里祭祀祖先的时候，千万不要忘记把这件事情告诉你们的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504216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42508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5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齐读这两首诗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思考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示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首诗所表达的思想感情相同吗？联系诗的内容谈谈自己的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这两首诗都表达了作者的爱国之情，这一点是相同的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示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通过“悲”来表达盼望祖国统一的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通过“喜”（听到祖国重归统一，“喜欲狂”）表达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4824720" cy="45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477720"/>
            <a:ext cx="6983280" cy="582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-166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1680" y="836280"/>
            <a:ext cx="92851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杜甫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12—7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字子美，祖籍襄阳（今湖北襄樊），出生于巩县（今属河南）。誉为诗圣。早年南游吴越，北游齐赵，因科场失利，未能考中进士。后入长安，过了十年困顿的生活，终于当上看管兵器的小官。安史之乱爆发，为叛军所俘，脱险后赴灵武见唐肃宗，被任命为左拾遗，又被贬为华州司功参军。后来弃官西行，客居秦州，又到四川定居成都草堂。严武任成都府尹时，授杜甫检校工部员外郎的官职。一年后严武去世，杜甫移居夔州。后来出三峡，漂泊在湖北、湖南一带，死于舟中。杜甫历经盛衰离乱，饱受艰难困苦，写出了许多反映现实、忧国忧民的诗篇，诗作被称为“诗史”；他集诗歌艺术之大成，是继往开来的伟大现实主义诗人。《谴怀》《昔游》《卜居》《堂成》《蜀相》《为农》《有客》《狂夫》《舍》《江村》《野老》《遣兴》《南邻》《恨别》《客至》《江亭》《可惜》《独酌》《寒食》《石镜》《琴台》《病柏》《枯棕》《不见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闻官军收河南河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唐代诗人杜甫的七言律诗，作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（广德元年）春天，作者五十二岁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（宝应元年）冬季，唐军在洛阳附近的横水打了一个大胜仗，收复了洛阳和郑（今河南郑州）、汴（今河南开封）等州，叛军头领薛嵩、张忠志等纷纷投降。第二年，史思明的儿子史朝义兵败自缢，其部将田承嗣、李怀仙等相继投降，持续七年多的“安史之乱”由此结束。正流寓梓州（治所在今四川三台），过着飘泊生活的杜甫听到这个消息，以饱含激情的笔墨，写下了这篇脍炙人口的名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品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品名称：闻官军收河南河北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创作年代：唐代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：杜甫 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品体裁：七言律诗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杜甫写的“生平第一快诗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26:15Z</dcterms:created>
  <dc:creator>微软用户</dc:creator>
  <dc:description>www.05wang.com</dc:description>
  <cp:keywords/>
  <dc:language>en-US</dc:language>
  <cp:lastModifiedBy>零五网</cp:lastModifiedBy>
  <cp:lastPrinted>1899-12-30T00:00:00Z</cp:lastPrinted>
  <dcterms:modified xsi:type="dcterms:W3CDTF">2014-11-05T11:49:00Z</dcterms:modified>
  <cp:revision>7</cp:revision>
  <dc:subject/>
  <dc:title>www.05wang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